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19A-BB28-44E0-932B-79BA49628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221-D9B9-4236-91FB-B456D0D2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BDE9-4583-48B4-B7C7-71C41630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D15-BDC3-4901-A113-D98DA8FF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6FD0-FAE9-4D1E-8007-4899D389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7FEF-3D55-4EC0-BB78-7C30ACEE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6A2B-C489-46CF-9582-EB5F86A6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12C-21CA-4659-B801-71044FBA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C777-35F0-44B2-9560-4C88B899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6D6F-97EF-4253-8234-7ACF2F2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0B4-196C-405E-805C-25EC95B4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C73-8CC5-4331-9513-64DEEDBA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2154-D463-435B-B09F-D0766120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95E8-0FB3-40E5-8B7A-72103DC3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A86F-B6A2-4F7D-BE6F-069D8A3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5DC-1ED7-42F9-A7BC-660B650A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4248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41600" y="152352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430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4248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41600" y="3827880"/>
            <a:ext cx="2379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226B-766E-45E8-B495-B5986297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D72-652C-4C49-8725-CE584BC7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690-B1D4-46A7-80FD-0208936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978-4C43-44BE-8A76-B9DFB29D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6960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9430-2614-460C-B1E5-0AEDEFFA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028-2781-4FBE-9E67-B64C9B08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0560" y="382788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DC0-217A-41FB-B010-A08FFD7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0560" y="1523520"/>
            <a:ext cx="36068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827880"/>
            <a:ext cx="739152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553-3249-451E-A09A-F2D96467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523520"/>
            <a:ext cx="73915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836"/>
              </a:spcBef>
              <a:buClr>
                <a:srgbClr val="669999"/>
              </a:buClr>
              <a:buSzPct val="5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836"/>
              </a:spcBef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836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836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836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B8A8-BE9D-4778-B632-770EE8FF72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0E3-DAA5-414C-ACCA-73BEA524DE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Aft>
                <a:spcPts val="689"/>
              </a:spcAft>
              <a:buClr>
                <a:srgbClr val="cccc00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27296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EBSC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utorial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upport.ebsco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915400" cy="3370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" y="5108400"/>
            <a:ext cx="807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a free web page creation program, entitled Page Composer. It allows you to create customized web pages that can include Result List items, a search box, image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ve page graphics, which can be used, for example, as assignments to stud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posted to another web site). The Page Composer program is exclus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le from within the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r, where web pages cre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this tool are stored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0" r="0" b="11695"/>
          <a:stretch/>
        </p:blipFill>
        <p:spPr>
          <a:xfrm>
            <a:off x="152280" y="838080"/>
            <a:ext cx="8839440" cy="399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5610240"/>
            <a:ext cx="7391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so includes a useful chargeback feature, allowing you to track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 usage times for charging back clients. The u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information can be printed or emailed to destina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you specif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2133720"/>
            <a:ext cx="220968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0" t="0" r="0" b="3648"/>
          <a:stretch/>
        </p:blipFill>
        <p:spPr>
          <a:xfrm>
            <a:off x="95400" y="685800"/>
            <a:ext cx="8896320" cy="487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57200" y="576252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view the complete online help manual, and visit the EBSCO support site at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ttp://support.ebsco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browse our Knowledge Base of FAQs, download Help Sheet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Guides, view online tutorials, or see what’s new in our Top Stori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oncludes the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uto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458200" y="609480"/>
            <a:ext cx="533520" cy="3812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561024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lcome to the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ial, which demonstrates how to set up and make the most of the free personalization (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older, allowing users to extend the usage of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arch results beyond their current session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alized folder accounts are simple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up, and can be created by any user accessing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731880"/>
            <a:ext cx="8686800" cy="4754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0" t="0" r="0" b="15144"/>
          <a:stretch/>
        </p:blipFill>
        <p:spPr>
          <a:xfrm>
            <a:off x="219240" y="838080"/>
            <a:ext cx="869616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71500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 to search results,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can store Images, Video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istent Links to Searches, Saved Searches, Search Alerts, Journal Alerts and Web Pages created u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SCO’s free Page Composer program.  From within the Personalized folder, us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print, email, save, or export search results, images or vide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0" t="0" r="0" b="11695"/>
          <a:stretch/>
        </p:blipFill>
        <p:spPr>
          <a:xfrm>
            <a:off x="152280" y="838080"/>
            <a:ext cx="876312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80880" y="5670720"/>
            <a:ext cx="838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’ll begin by clicking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 In to My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’m a new us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and fill in the fields. Click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Once your information has been accepted, you will automatically be logged in as a personalized folder us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2133720"/>
            <a:ext cx="106704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685800"/>
            <a:ext cx="1523880" cy="457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0" t="0" r="0" b="11631"/>
          <a:stretch/>
        </p:blipFill>
        <p:spPr>
          <a:xfrm>
            <a:off x="228600" y="762120"/>
            <a:ext cx="8686800" cy="466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5762520"/>
            <a:ext cx="853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conduct a Basic or Advanced Search after logging in to your personalized folder, you can save particular Result List items to your personalized folder by clicking on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to fol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to the left of the relevancy bar for each article. These saved search results can be examined more closely at a later date, as well as printed, emailed or saved to your compu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3048120"/>
            <a:ext cx="99072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63120" cy="5078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920" y="5899320"/>
            <a:ext cx="845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y clicking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ert/Save/Sha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 and then click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search to fol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you can add a persistent link to a search to your personalized folder, which can then be emailed, saved or clicked later on to run the search, showing any new results that have been added to the database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762120"/>
            <a:ext cx="2590920" cy="1295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798480"/>
            <a:ext cx="8763120" cy="500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601992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ick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rch History/Aler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elow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ield, you can save searches to be retrieved for later use. You can also print your search history by clicking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t Search Histo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2362320"/>
            <a:ext cx="137160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2362320"/>
            <a:ext cx="1524240" cy="380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5680" y="762120"/>
            <a:ext cx="8906040" cy="4657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" y="568656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save your most recently conducted Advanced Search as a Search Alert and have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mail you with any new search results. Search Alerts can also be retrieved from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used to conduct the search immediately, eliminating the need to wa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future alert results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033" r="0" b="8037"/>
          <a:stretch/>
        </p:blipFill>
        <p:spPr>
          <a:xfrm>
            <a:off x="152280" y="719280"/>
            <a:ext cx="8839440" cy="48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5638680"/>
            <a:ext cx="8610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the Publication Details page of most journals represented in the database you are searching, you can set up a Journal Alert, which will be kept in your personalized My EBSCO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der until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it. Journal Alerts provide automatic notification via email whenever a new issue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ecified publication has been added to the database, eliminating the need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ally check the database for new iss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4:42:47Z</dcterms:created>
  <dc:creator>Jonathan Williams</dc:creator>
  <dc:description/>
  <cp:keywords/>
  <dc:language>en-US</dc:language>
  <cp:lastModifiedBy>EBSCO Employee</cp:lastModifiedBy>
  <dcterms:modified xsi:type="dcterms:W3CDTF">2009-02-02T20:19:57Z</dcterms:modified>
  <cp:revision>35</cp:revision>
  <dc:subject/>
  <dc:title>CINAHL Basic Searc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137211033</vt:lpwstr>
  </property>
</Properties>
</file>